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167E-90C9-4F7C-BB3A-8CDC19174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713D-4788-4DBF-B016-4C8C72B9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2C04-060E-44A6-B4DD-5E28F0E16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ABBC-BDAF-4F7C-A8C4-41C31B32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BCED-8E33-4077-BB3F-2342CDCB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4CCF-9CFF-40F8-B290-B48C8E27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D77E-6491-4449-810F-0C911924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4EDA-2939-45B9-BD48-4336B38D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614D-CD25-458A-BC80-9CA40315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9A67-28CD-400B-9741-0C66CECB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24B4-B4A1-4CD0-9AE6-F9A03CD2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596A-D10A-4DD0-990A-160F1491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8DD9-817E-41F1-910B-E7D93C3536D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752480"/>
            <a:ext cx="6400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ثال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تطوير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ACB4-08AC-4ABC-8D50-D95701C24D2E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466640"/>
            <a:ext cx="815328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عن ل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3295800"/>
            <a:ext cx="792504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معلومات عن العاملين وأعدادهم وأعمارهم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52BE-EB3D-4E54-8821-52CA09CC5FCF}" type="slidenum">
              <a:t>10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1537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عن الموارد البش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36708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معلومات مالية عن تكلفة اختيار وتعيين وتدريب ا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A778-C333-4629-B6C8-4CD838AA04E4}" type="slidenum">
              <a:t>11</a:t>
            </a:fld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60920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اجتم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3438360"/>
            <a:ext cx="792504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بيان كل من نفقات وعوائد المشروعات الاجتماعية وحماية البيئ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455E-87D5-41F3-9186-16C5DF1C81BA}" type="slidenum">
              <a:t>12</a:t>
            </a:fld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456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بالقيمة المضا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438360"/>
            <a:ext cx="784872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بيان مدى مساهمة كل عامل من عوامل الانتاج في الدخل المحق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6237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A5AB-D75C-4873-903C-85174239D6FD}" type="slidenum">
              <a:t>13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85160" y="2242440"/>
            <a:ext cx="7488000" cy="3897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طورت التقارير المالية من حيث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كمية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نوع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طريقة عرض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الحد الادنى الضروري من المعلومات التي يجب الإفص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   عن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765000"/>
            <a:ext cx="7705440" cy="1079640"/>
          </a:xfrm>
          <a:prstGeom prst="bevel">
            <a:avLst>
              <a:gd name="adj" fmla="val 264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طور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C46A-1377-428F-A004-1F6DF367FCF8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92468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ماذا ظهرت الدعوة إلى تطوير التقارير المالية؟؟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3352320"/>
            <a:ext cx="7848360" cy="18766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عدم وفاء التقارير المالية بشكلها الحالي باحتياجات المستفيدين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2690-744D-4854-A1C2-4669CEB045DA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32040"/>
            <a:ext cx="7772400" cy="76824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50000">
                <a:srgbClr val="ffffff"/>
              </a:gs>
              <a:gs pos="100000">
                <a:srgbClr val="c5f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ي مظاهر هذا التطور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3040" y="2000160"/>
            <a:ext cx="7772400" cy="4172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قطاع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متعددة الأغراض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دورية (الفترية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مستقبل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موجز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للعامل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عن الموارد البشر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حاسبة الاجتماع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بالقيمة المضاف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9A18-4C2C-46B3-B76F-53AEBD1A3418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37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قط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3367080"/>
            <a:ext cx="822960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الافصاح حسب الانتاج أو المناطق الجغراف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A6FE-462F-43E5-B4EC-53469E64C8B5}" type="slidenum">
              <a:t>5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8205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متعددة الاغرا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438360"/>
            <a:ext cx="800100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عدة طرق مثل تكلفة الاحلال أو الجا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C091-C389-4AFB-AC86-54A53E9E64B9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37920"/>
            <a:ext cx="784872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دورية (الفتري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36708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فترات قصيرة ربع سنوية مثل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0602-B0E2-435F-AAE9-3BC7390BA0E4}" type="slidenum">
              <a:t>7</a:t>
            </a:fld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1537920"/>
            <a:ext cx="7924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مستقبل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367080"/>
            <a:ext cx="815364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وائم معتمدة على تنبؤات مستقب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56D7-E545-4A84-85A5-3E36A70934BB}" type="slidenum">
              <a:t>8</a:t>
            </a:fld>
          </a:p>
        </p:txBody>
      </p:sp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7924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موجز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7180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  <a:cs typeface="PT Bold Heading"/>
              </a:rPr>
              <a:t>المختصر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5A1C-D1C5-4CF0-9990-8D3B1BA49222}" type="slidenum">
              <a:t>9</a:t>
            </a:fld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7T21:54:19Z</dcterms:modified>
  <cp:revision>28</cp:revision>
  <dc:subject/>
  <dc:title>التحليل المالي والائتماني</dc:title>
</cp:coreProperties>
</file>